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F5C9F-0291-4469-BA23-DD8BCA857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A25-4D2B-45AE-8C11-0E4BC8F9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991-9209-4E89-B098-ADB164AC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A91-406E-44F4-A888-3F002D4F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1480"/>
            <a:ext cx="29196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521-0700-4782-A84E-87986857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ED6-FD17-4C80-9D39-388CF71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8EA-B5A4-4D96-9FA4-385022B6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6F3-CAA0-4B7D-9D09-766B5C92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1FC-FCFA-4618-993D-755C27CD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189-052E-4A4C-97D4-3819C52C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B37-0BF5-486F-9EB5-6D41984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148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FCD-DBD3-4244-8091-1E43C74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7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05F-7037-4D9E-83DD-036B734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3CAC-46F8-410C-B1AE-4C7F0439E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lores1@mit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Trust-Building Mechanism in the Me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7.08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y Flores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lores1@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rge de la G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ert Falc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Ke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rust Model Based Cooperation Enforcement Mechanism in Mesh Networ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s PID-like trus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de is deemed untrustworthy, add to bla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hange parameters to better fit network and desir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than blacklist-sharing models (zero network overhead, no list comparin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be efficient enough for 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tizing 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blacklist, use node's trust score to determine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priority in packet forwarding means faster, sustained bandwid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fficiently low score, actively malicious, and low overall traffic, temporarily blacklist ( t ~ 1/score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lso using blacklist sharing, false positives are only a small problem for otherwise-trustworthy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incentive to play 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 Build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new node is encountered, initially has a low tru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node performs dutifully, trust scor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deeds” &lt;==&gt; Reward (bandwidt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 address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legit user wants to switch identities, n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witching to bypass blacklists, still must play nice to gain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ts in kernel: works with Cere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desteps unique identific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pe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 effectively malicious on a widespread level, one must first “do good” to become tr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re is asymmetric towards untrustworthy, so more “good” done than “bad”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: flores1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9920" y="33804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e Laptop Per Child -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23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process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D Geode, ~43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6 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energy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access to electricity for battery recha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can alter an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-source wireless card firm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implement protocols in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9920" y="33804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e Laptop Per Child -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920" y="1868400"/>
            <a:ext cx="907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ly massive network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eral software philosophy: “Let kids expl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implement overly-restrictive secur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spoofing entirely feasible, even encou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unusual network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addresses not tied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dentities all over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uce Wayne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ed/encouraged to spoof MAC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provide other ID of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concerns are more typ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-to-poi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per-resistance f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behaving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lem is direct result of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sav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-lightweight devices (~433 Mhz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regard MAC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kay for routing / 802.11s / AO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be spoofed, imperso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ing a new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simple as generating new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new MAC address at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ding a general-purpos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MAC &amp;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d public key wit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key effectively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int-to-point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add encryption on top of M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havior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c/natur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y black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